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3770280" y="5961240"/>
            <a:ext cx="723960" cy="269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2421000" y="1663560"/>
            <a:ext cx="2835360" cy="1167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093680" y="3041640"/>
            <a:ext cx="608040" cy="212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716440" y="3360600"/>
            <a:ext cx="619200" cy="1554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56960" y="2444760"/>
            <a:ext cx="6159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eporte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o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38560" y="5578560"/>
            <a:ext cx="3065400" cy="917640"/>
          </a:xfrm>
          <a:custGeom>
            <a:avLst/>
            <a:gdLst>
              <a:gd name="textAreaLeft" fmla="*/ 376920 w 3065400"/>
              <a:gd name="textAreaRight" fmla="*/ 2688480 w 3065400"/>
              <a:gd name="textAreaTop" fmla="*/ 112680 h 917640"/>
              <a:gd name="textAreaBottom" fmla="*/ 804960 h 91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969" y="21600"/>
                </a:lnTo>
                <a:lnTo>
                  <a:pt x="1631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40200" y="2832120"/>
            <a:ext cx="217440" cy="11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195800" y="2511360"/>
            <a:ext cx="139680" cy="317520"/>
            <a:chOff x="4195800" y="2511360"/>
            <a:chExt cx="139680" cy="317520"/>
          </a:xfrm>
        </p:grpSpPr>
        <p:sp>
          <p:nvSpPr>
            <p:cNvPr id="46" name=""/>
            <p:cNvSpPr/>
            <p:nvPr/>
          </p:nvSpPr>
          <p:spPr>
            <a:xfrm>
              <a:off x="4335480" y="2514600"/>
              <a:ext cx="0" cy="31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195800" y="25113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3201120" y="2754360"/>
            <a:ext cx="47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xxx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340320" y="4762440"/>
            <a:ext cx="1841760" cy="1650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81160" y="1079640"/>
            <a:ext cx="3759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68560" y="1384200"/>
            <a:ext cx="3759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74640" y="111276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Hardcastle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37320" y="6108840"/>
            <a:ext cx="58428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49920" y="5784840"/>
            <a:ext cx="58428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065560"/>
            <a:ext cx="1488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h Str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 Comp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e parking pl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84400" y="5757840"/>
            <a:ext cx="68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igg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r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land Saxons v Portugal – Friday 3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January – 2000 K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2346480" y="3308400"/>
            <a:ext cx="2997000" cy="1706400"/>
            <a:chOff x="2346480" y="3308400"/>
            <a:chExt cx="2997000" cy="1706400"/>
          </a:xfrm>
        </p:grpSpPr>
        <p:grpSp>
          <p:nvGrpSpPr>
            <p:cNvPr id="59" name=""/>
            <p:cNvGrpSpPr/>
            <p:nvPr/>
          </p:nvGrpSpPr>
          <p:grpSpPr>
            <a:xfrm>
              <a:off x="2346480" y="3308400"/>
              <a:ext cx="2997000" cy="1706400"/>
              <a:chOff x="2346480" y="3308400"/>
              <a:chExt cx="2997000" cy="1706400"/>
            </a:xfrm>
          </p:grpSpPr>
          <p:sp>
            <p:nvSpPr>
              <p:cNvPr id="60" name=""/>
              <p:cNvSpPr/>
              <p:nvPr/>
            </p:nvSpPr>
            <p:spPr>
              <a:xfrm>
                <a:off x="2346480" y="3309840"/>
                <a:ext cx="2997000" cy="1704600"/>
              </a:xfrm>
              <a:prstGeom prst="rect">
                <a:avLst/>
              </a:prstGeom>
              <a:solidFill>
                <a:srgbClr val="64ff64">
                  <a:alpha val="7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701440" y="3313440"/>
                <a:ext cx="0" cy="170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968000" y="3308400"/>
                <a:ext cx="1800" cy="170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845160" y="3313440"/>
                <a:ext cx="1080" cy="170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161160" y="3313440"/>
                <a:ext cx="1800" cy="170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500360" y="3313440"/>
                <a:ext cx="1440" cy="170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133880" y="3413880"/>
                <a:ext cx="0" cy="147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555360" y="3413880"/>
                <a:ext cx="0" cy="147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>
                <a:off x="2793240" y="3413880"/>
                <a:ext cx="2050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>
                <a:off x="2793240" y="4886280"/>
                <a:ext cx="2050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2406960" y="3787200"/>
              <a:ext cx="294480" cy="638640"/>
              <a:chOff x="2406960" y="3787200"/>
              <a:chExt cx="294480" cy="638640"/>
            </a:xfrm>
          </p:grpSpPr>
          <p:sp>
            <p:nvSpPr>
              <p:cNvPr id="71" name=""/>
              <p:cNvSpPr/>
              <p:nvPr/>
            </p:nvSpPr>
            <p:spPr>
              <a:xfrm flipH="1" flipV="1">
                <a:off x="2406960" y="3787200"/>
                <a:ext cx="294480" cy="150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2406960" y="4385880"/>
                <a:ext cx="294480" cy="39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V="1">
                <a:off x="2613960" y="3889800"/>
                <a:ext cx="720" cy="50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4967640" y="3787200"/>
              <a:ext cx="294480" cy="638640"/>
              <a:chOff x="4967640" y="3787200"/>
              <a:chExt cx="294480" cy="638640"/>
            </a:xfrm>
          </p:grpSpPr>
          <p:sp>
            <p:nvSpPr>
              <p:cNvPr id="75" name=""/>
              <p:cNvSpPr/>
              <p:nvPr/>
            </p:nvSpPr>
            <p:spPr>
              <a:xfrm flipV="1">
                <a:off x="4967640" y="3787200"/>
                <a:ext cx="294480" cy="150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967640" y="4385880"/>
                <a:ext cx="294480" cy="39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flipV="1">
                <a:off x="5054400" y="3889800"/>
                <a:ext cx="720" cy="50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3428640" y="4109760"/>
              <a:ext cx="833760" cy="122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" name=""/>
          <p:cNvSpPr/>
          <p:nvPr/>
        </p:nvSpPr>
        <p:spPr>
          <a:xfrm rot="5400000">
            <a:off x="2234880" y="4964040"/>
            <a:ext cx="86040" cy="7920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160" bIns="-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3797280" y="3141720"/>
            <a:ext cx="85680" cy="7920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160" bIns="-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72000" y="2970360"/>
            <a:ext cx="677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(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D OMNI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2722680" y="3239640"/>
            <a:ext cx="2136600" cy="9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arrow" w="sm"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49200" y="4923000"/>
            <a:ext cx="7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16200000">
            <a:off x="5356080" y="3261960"/>
            <a:ext cx="95400" cy="7956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160" bIns="-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433840" y="3222720"/>
            <a:ext cx="20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6200000">
            <a:off x="5356080" y="4938480"/>
            <a:ext cx="95040" cy="7956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160" bIns="-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52920" y="4898880"/>
            <a:ext cx="141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17440" y="6068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11680" y="5996160"/>
            <a:ext cx="87120" cy="7920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160" bIns="-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62160" y="6068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56040" y="5996160"/>
            <a:ext cx="87480" cy="7920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160" bIns="-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60680" y="6068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354560" y="5996160"/>
            <a:ext cx="87120" cy="7920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160" bIns="-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83120" y="5989680"/>
            <a:ext cx="226800" cy="122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K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86320" y="6324480"/>
            <a:ext cx="745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fc0128"/>
                </a:solidFill>
                <a:latin typeface="Arial"/>
              </a:rPr>
              <a:t>Vernon St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82960" y="3073320"/>
            <a:ext cx="447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fc0128"/>
                </a:solidFill>
                <a:latin typeface="Arial"/>
              </a:rPr>
              <a:t>Chead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fc0128"/>
                </a:solidFill>
                <a:latin typeface="Arial"/>
              </a:rPr>
              <a:t>E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62480" y="1701720"/>
            <a:ext cx="730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fc0128"/>
                </a:solidFill>
                <a:latin typeface="Arial"/>
              </a:rPr>
              <a:t>Stockport Express St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22280" y="3375000"/>
            <a:ext cx="42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fc0128"/>
                </a:solidFill>
                <a:latin typeface="Arial"/>
              </a:rPr>
              <a:t>Railw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fc0128"/>
                </a:solidFill>
                <a:latin typeface="Arial"/>
              </a:rPr>
              <a:t>E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11240" y="24271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38600" y="2335320"/>
            <a:ext cx="87480" cy="7920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160" bIns="-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82680" y="34448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3866040" y="3480120"/>
            <a:ext cx="87480" cy="7920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160" bIns="-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17920" y="2832120"/>
            <a:ext cx="217440" cy="11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2203560" y="3303720"/>
            <a:ext cx="85680" cy="7920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160" bIns="-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44720" y="3262320"/>
            <a:ext cx="307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733840" y="5169960"/>
            <a:ext cx="2205000" cy="9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75240" y="5035680"/>
            <a:ext cx="87120" cy="7920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160" bIns="-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97240" y="5211720"/>
            <a:ext cx="79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 (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ble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8900000">
            <a:off x="5405400" y="5081760"/>
            <a:ext cx="542880" cy="338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18880" y="39355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1345680" y="4024080"/>
            <a:ext cx="95040" cy="7956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160" bIns="-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5400000">
            <a:off x="3727440" y="3475080"/>
            <a:ext cx="85680" cy="7920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160" bIns="-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71760" y="3389400"/>
            <a:ext cx="44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0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8-07T14:54:48Z</dcterms:created>
  <dc:creator>BRITISH SKY BROADCASTING PLC</dc:creator>
  <dc:description/>
  <cp:keywords/>
  <dc:language>en-US</dc:language>
  <cp:lastModifiedBy>andy munn</cp:lastModifiedBy>
  <cp:lastPrinted>2000-09-13T18:38:33Z</cp:lastPrinted>
  <dcterms:modified xsi:type="dcterms:W3CDTF">2009-01-21T15:15:39Z</dcterms:modified>
  <cp:revision>279</cp:revision>
  <dc:subject>Generic</dc:subject>
  <dc:title>Football  Pitch</dc:title>
</cp:coreProperties>
</file>